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8567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352-64C2-44D4-8F3B-C19D3876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84E-0DD5-4B67-AC41-92DFBD58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064-C67B-47A7-97F2-9A0C82B6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318-AB7E-4F7B-905E-94D0CDD9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155-5D01-4317-9ED8-AB6F4762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96B-B719-490C-AF9E-8E519531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AE0-F3FA-41DE-A627-346AB45F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D5F-19DD-43C0-8993-2B280A07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853-370B-46C6-834F-689470D9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2AD-A96E-41D9-BD7B-A89F2965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7DB-691B-4BF6-9D9D-65CA4095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579-797E-410C-942B-F59F4AD8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A78B5EAE-570C-4F47-AD69-115450A5F3CE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2n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 and Introduction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7315200" y="6019920"/>
            <a:ext cx="1828800" cy="838080"/>
            <a:chOff x="7315200" y="6019920"/>
            <a:chExt cx="1828800" cy="838080"/>
          </a:xfrm>
        </p:grpSpPr>
        <p:sp>
          <p:nvSpPr>
            <p:cNvPr id="103" name=""/>
            <p:cNvSpPr/>
            <p:nvPr/>
          </p:nvSpPr>
          <p:spPr>
            <a:xfrm>
              <a:off x="7391520" y="6019920"/>
              <a:ext cx="1752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5200" y="6477120"/>
              <a:ext cx="1720800" cy="25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Timeli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3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B88-5F5D-483D-87BA-2CBB62009B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General Upd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ndum to the Consortium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ed by all partners and currently in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ble to th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of Period 1 fu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Distribution (85%, early in the pro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der of Period 1 (15%, mid-M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2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iting information from the 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will distribute 85% in early Ju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801-3A90-4F14-AB63-26070CA61E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hanges to finances- SURFne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and ASTRON will be changing some of their financing.  Both organizations will push their SA2 budget directly to SURFnet.  SURFnet has agreed to th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was doing the actual work and expending the money; both JIVE and ASTRON were essentially "men in the middle."  This is due to the fact that SURFnet is both a partner and our N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is providing a great deal of support and work for the project.  This is not evident from a pure financial analysis.  We hope that this change will even some of their partic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otal, SURFnet will receive 28,000 EUR from JIVE and ASTR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803-0BBE-41D1-9C8E-C86B8CE6B9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802-DA8A-4E30-9868-D1DD6685D5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ex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h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2A6-1926-4C24-9AC4-7611C33A38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genda- General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8.30 - 08.4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/Welcome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8.45 - 09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/Changes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00 - 09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y Annual Review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30 - 09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/ NA4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50 - 10.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&lt;J. Conwa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05 - 10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&lt;J. Chev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20 - 10.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 WP1 &lt;R. Spenc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40 - 11.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10 - 11.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 WP2 &lt;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40 - 12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&lt;A. Szomoru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00 - 12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&lt;F. Colom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20 - 13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20 - 14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es + discussion + audit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30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Board meeting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up/Clo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B10-1147-4CEE-8BAA-8247A61FF2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dministrivia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tes taken by Diana van D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 to be requ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accepted via email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ts in the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w/r/t leaving the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EED-A8AA-40D5-8D15-8B791771D7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x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 Obta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represented by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this in as we learn mo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0F8-8949-4EFA-862A-2032B8378D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oru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the Consortium Agre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overning Board may validly meet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-thirds (2/3) of its members are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repres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 Partners, 13 individuals make 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ance/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F90-849E-422B-9281-E9A02F9A8F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 March – Project Star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May – Month 15 (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 March – Project Completion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Quar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1: March, April,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2: June, July,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3: September, October, Nov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4: December, January, Febr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C28-3571-4602-BA1D-27806D2C6F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Chang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the Consortium Agre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overning Board shall appoin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ail was sent at the beginning of the calendar year indicating that Huib Jan van Langevelde would be the interim Coordinator for EXPR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Non-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man and Vice-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for upcoming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181-0A20-40F6-85D8-1B41180030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anagement Organo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7925040" cy="5138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C99-DB2E-4137-B18F-1B7655144E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. Charles Yun</cp:lastModifiedBy>
  <dcterms:modified xsi:type="dcterms:W3CDTF">2007-05-18T09:23:19Z</dcterms:modified>
  <cp:revision>112</cp:revision>
  <dc:subject/>
  <dc:title>Slide 1</dc:title>
</cp:coreProperties>
</file>